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2A46-B703-4545-BCFA-DA980288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6375-F85E-4721-BD59-5702542E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B91E-D612-439E-9942-1F2848DA9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95B1-200D-4FAB-BCEF-A9C22EDB1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F291-C5D0-47AA-9A90-E9A9E3E09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EEAAA-E9BB-4E93-ADDD-00F51C6B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AB1CF-EE0B-4216-86BD-77F70B07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DA45-B238-4963-A16E-F0339D6C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94188-EC34-49CE-8C68-0311B4CEB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229C-67C3-4873-9C4E-5C569A27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1787-28F6-4C7A-AAE6-B4DCB46C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D93-2995-49EF-8D08-DD99659B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7669-0294-4E67-BA5D-63C093CF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E953-3562-4D79-87B4-281C778C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5D2E-A31E-4173-9A50-E50262A3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0FE65-5B38-4B50-8490-19D8D8C94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2F21-E181-42F5-AF06-DB656B1D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BAD-5B6E-4ED5-B4B8-EA8A4FB8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0FEF-D048-4B54-A4D6-B0899820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BE57-8A09-43F8-A04B-40C7A4CA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6411-B3C9-4628-999C-A8D87C52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EB69-4848-42CD-A3ED-44E27CCE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B047-6BF4-42CA-B96E-4721DE09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CAB3-49A7-4541-982C-F66E6A2E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July 8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2590560" y="63673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Copyright 2002 MHV Enterpris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E066-2EFF-4D32-AE00-2EC351526B87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E94C-4B35-4D6A-A285-CBEE6BAE27B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ickBooks and Visual FoxPr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reated by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rank A. Marafino Jr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 Basic Request Typ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oRequestSet.Append&lt; some table &gt;AddRq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oRequestSet.Append&lt; some table &gt;ModRq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oRequestSet.Append&lt; some table &gt;QueryRq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oRequestSet.AppendTxnDelRq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oRequestSet.AppendTxnVoidRq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ilding a Reque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de…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nding the Reque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ResponseSet = loQBSM.DoRequests(loRequestSet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turns a Response </a:t>
            </a: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Se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– array of object references – one response for each request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hecking Response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tus and D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ok at the first respon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Response = loResponseSet.ResponseList.GetAt(0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IF (loResponse.StatusCode # 0)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MESSAGEBOX("Status: Code = " + ALLTRIM(STR(loResponse.StatusCode)) + ;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", Severity = " + loResponse.StatusSeverity + ;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", Message = " + loResponse.StatusMessage)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ENDIF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inquishing the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munication Chann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QBSM.EndSess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QBSM.CloseConnec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QuickBoo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expensiv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Very easy to u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45472"/>
                </a:solidFill>
                <a:uFillTx/>
                <a:latin typeface="Tahoma"/>
              </a:rPr>
              <a:t>Excellent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reporting too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2002 version has Developer Too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xcellent search capabilit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asy Data Expor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  <a:ea typeface="Times New Roman"/>
              </a:rPr>
              <a:t>Accountant’s Copy” Functionality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hy Not QuickBook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ot really multi-use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Database search is slow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roprietary databa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Not an “Industrial Strength” accounting system (GAAP Compliant Issues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Old Wa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reate a complex IIF file using Excel VB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ell the user what file you created and where it i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er then imports this via the QuickBooks menu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er must be logged on in Single-User mod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me Overview Basic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OLEDB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XML Interface if desired – not covered her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ots of good documenta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es lot of Enum documented in .H fil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 Based – starts counting at zero (when referencing arrays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me Proble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low, slow, slow…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rror wh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QuickBooks is opened in Single-User mode by another user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QuickBooks is opened to a modal scree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QuickBooks is opened in another company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ultiple connections to different databases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er tries to open QuickBooks when your application has it opened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complete Record Sets are returned where fields are empty and not required by QuickBooks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ickBooks SD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stablishing a communication channel with QuickBooks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uilding a set of requests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nding the request set to QuickBooks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hecking response status and data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545472"/>
              </a:buClr>
              <a:buSzPct val="90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linquishing the communication channel with QuickBook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ablishing communic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QuickBooks Menu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Edit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Preferenc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Integrated Application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Company Preferences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oQBSM = CREATEOBJECT('QBFC1.QBSessionManager'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oQBSM.OpenConnection(&lt;Application ID&gt;, &lt;Application Name&gt;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646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loQBSM.BeginSession(&lt;Database File&gt;, &lt;Open Mode&gt;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Single User – 0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Multi-User – 1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SzPct val="1280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5472"/>
                </a:solidFill>
                <a:latin typeface="Tahoma"/>
              </a:rPr>
              <a:t>Don’t Care – 2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uilding a set of reques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loQBSM.CreateMsgSetRequest(1,1) &amp;&amp; {Major Version}, {Minor Version}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Returns a Request </a:t>
            </a:r>
            <a:r>
              <a:rPr b="0" lang="en-US" sz="2000" spc="-1" strike="noStrike" u="sng">
                <a:solidFill>
                  <a:srgbClr val="545472"/>
                </a:solidFill>
                <a:uFillTx/>
                <a:latin typeface="Tahoma"/>
              </a:rPr>
              <a:t>Set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Object reference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loRequestSet.Attributes.OnError =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0 – Stop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 – Continue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2 – Rollback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quest Set allows for one at a time or many at once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8T04:25:24Z</dcterms:created>
  <dc:creator>Francis A. Marafino, Jr.</dc:creator>
  <dc:description/>
  <dc:language>en-US</dc:language>
  <cp:lastModifiedBy>Francis A. Marafino, Jr.</cp:lastModifiedBy>
  <dcterms:modified xsi:type="dcterms:W3CDTF">2002-07-10T02:13:05Z</dcterms:modified>
  <cp:revision>12</cp:revision>
  <dc:subject/>
  <dc:title>QuickBooks and Visual FoxPro</dc:title>
</cp:coreProperties>
</file>